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0738-95A6-4552-AE94-A29AAC0CC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9C2A-6381-418E-AD21-35C1E4F6E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E67-D9F9-420C-80DE-76E7678F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A2CF-32F4-457D-A5CF-6A4A18DA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7C03-EA81-4C26-9A43-E50BBD0F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E904-44F3-46CB-83A8-FBC4809B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22E9-5FE7-4BA6-AD51-D192AC96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6FCB-E56D-4675-B200-AC94BA99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D6F7-6088-465B-BE16-115352C9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C0BF-9EF6-49BC-9758-3F9DD121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FEF2-F0CC-41DC-9278-5C8177C6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F72-0454-495E-9440-243F82B6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41D9-2F54-49AB-87F9-3ED5CF47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8F62-3A87-4A1E-910D-35340605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2D80-1148-4651-A57F-68AFAEA8F2B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247320" y="1447560"/>
            <a:ext cx="771516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78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FRICA RISING- 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8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Maize, Rice, Vegetable and Post Harvest Compon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10880" y="4349880"/>
            <a:ext cx="616428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Fred Kizi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On Behalf of All Team Me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9040" y="120816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What?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200600" y="3700440"/>
            <a:ext cx="6795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tter Crop Management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187280" y="4559400"/>
            <a:ext cx="6837480" cy="520560"/>
          </a:xfrm>
          <a:prstGeom prst="rect">
            <a:avLst/>
          </a:prstGeom>
          <a:solidFill>
            <a:srgbClr val="77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erving Natur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1174680" y="5392800"/>
            <a:ext cx="6865920" cy="52056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ing Household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1184400" y="2881440"/>
            <a:ext cx="6840360" cy="520560"/>
          </a:xfrm>
          <a:prstGeom prst="rect">
            <a:avLst/>
          </a:prstGeom>
          <a:solidFill>
            <a:srgbClr val="3b6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tter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Up-Down Arrow 4"/>
          <p:cNvSpPr/>
          <p:nvPr/>
        </p:nvSpPr>
        <p:spPr>
          <a:xfrm>
            <a:off x="7723080" y="1884240"/>
            <a:ext cx="1476360" cy="5051520"/>
          </a:xfrm>
          <a:prstGeom prst="upDownArrow">
            <a:avLst>
              <a:gd name="adj1" fmla="val 50000"/>
              <a:gd name="adj2" fmla="val 50041"/>
            </a:avLst>
          </a:prstGeom>
          <a:solidFill>
            <a:srgbClr val="771f28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ing Food Wastage and Spoi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Up-Down Arrow 10"/>
          <p:cNvSpPr/>
          <p:nvPr/>
        </p:nvSpPr>
        <p:spPr>
          <a:xfrm>
            <a:off x="14400" y="1879560"/>
            <a:ext cx="1473120" cy="5049720"/>
          </a:xfrm>
          <a:prstGeom prst="upDownArrow">
            <a:avLst>
              <a:gd name="adj1" fmla="val 50000"/>
              <a:gd name="adj2" fmla="val 49974"/>
            </a:avLst>
          </a:prstGeom>
          <a:solidFill>
            <a:srgbClr val="3b6431"/>
          </a:solidFill>
          <a:ln w="255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ty Empowerment and Sustain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25440" y="71712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How?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-65160" y="1362240"/>
            <a:ext cx="9180720" cy="53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2457360" y="8985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Wher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1023840" y="1541520"/>
            <a:ext cx="82155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55440" y="703440"/>
            <a:ext cx="4861080" cy="6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Who?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1577880" y="1368360"/>
            <a:ext cx="638676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16:50:55Z</dcterms:created>
  <dc:creator>ALUNA</dc:creator>
  <dc:description/>
  <dc:language>en-US</dc:language>
  <cp:lastModifiedBy>Kizito, Fred</cp:lastModifiedBy>
  <dcterms:modified xsi:type="dcterms:W3CDTF">2015-07-08T18:01:53Z</dcterms:modified>
  <cp:revision>636</cp:revision>
  <dc:subject/>
  <dc:title>Slide 1</dc:title>
</cp:coreProperties>
</file>